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599-B07D-4F04-B62B-95EA1F3C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152-6123-4403-B2E1-B78EF824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1BF-3DAB-452F-A57B-21F56E7A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4B2-D74A-4BB4-B741-D1B9BC21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A52-89B0-436C-A62E-B0BDF261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2C3-BF4A-49D2-99A4-97D8F332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61E-AF8A-45CE-B26A-FD9191A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4AB-EF4D-4A61-ABDE-09DDE53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6C8-9D95-44E2-BDEA-D21623C6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9884-5030-412F-A748-4B769660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0C3-39D1-420D-9E56-852C4646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655-3761-4879-9485-8C93A7DD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9787-F6AB-40AA-BE45-3A1D1F4A625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rimjena magnetskog djelovanja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električne stru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djeluju električni mjerni instrument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okus: ovisi li magnetna sila o struj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se dogodi kada uključimo strujni kru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SnapShot(227).jpg"/>
          <p:cNvPicPr/>
          <p:nvPr/>
        </p:nvPicPr>
        <p:blipFill>
          <a:blip r:embed="rId6"/>
          <a:srcRect l="29528" t="0" r="39372" b="0"/>
          <a:stretch/>
        </p:blipFill>
        <p:spPr>
          <a:xfrm>
            <a:off x="5435640" y="1413000"/>
            <a:ext cx="2547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 kada u strujni krug dodamo još jednu žaruljic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oće li se, dodavanjem još jedne žaruljice, produljenje opruge još više smanj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toji li povezanost magnetskog djelovanja i struje u strujnom krug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ontent Placeholder 3" descr="SnapShot(532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bi se dogodilo, kada bismo u prethodnom pokusu magnet učvrstili, a zavojnici omogućili okretan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stao b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omoto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omotor se sastoji od dijela koji miruje, statora, i pokretnog dijela, rot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ator je najčešće magnet, a rotor zavojnica koja se okreće između polova magne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elektromotor djel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vojnica na rotoru je elektromagnet, koji se zakreće tako da usmjerava svoje polove u smjeru polova trajnog magne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trenutku kada se zavojnica usmjeri, mijenja se smjer struje u zavojnici i ona se nastavlja zakretati kako bi se usmjerila u drugom smjeru. Zbog toga se stalno okreć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1T04:54:20Z</dcterms:created>
  <dc:creator>Zdenka</dc:creator>
  <dc:description/>
  <dc:language>en-US</dc:language>
  <cp:lastModifiedBy>Zdenko</cp:lastModifiedBy>
  <dcterms:modified xsi:type="dcterms:W3CDTF">2014-07-18T09:22:27Z</dcterms:modified>
  <cp:revision>3</cp:revision>
  <dc:subject/>
  <dc:title>Primjena magnetskog djelovanja električne struje</dc:title>
</cp:coreProperties>
</file>